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explode.wav" ContentType="audio/x-wav"/>
  <Override PartName="/ppt/media/image10.wmf" ContentType="image/x-wmf"/>
  <Override PartName="/ppt/media/image1.wmf" ContentType="image/x-wmf"/>
  <Override PartName="/ppt/media/image5.wmf" ContentType="image/x-wmf"/>
  <Override PartName="/ppt/media/breeze.wav" ContentType="audio/x-wav"/>
  <Override PartName="/ppt/media/pu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B4B-6649-43C4-8E55-B3B17158CF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this process           rationali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’t forget to simplif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n agreem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hematic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don’t leave a 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denominat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ame numb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rational number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d better get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FD6-F496-4E2F-A2E3-0535A0ED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D91-A6ED-4BA8-BAD9-866C15E7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60B-BDA2-4D7E-9484-216E7110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845-BE33-4965-B68F-4E635F17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FA6-3E40-4808-BF49-1A64878C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9388-CAB9-4ECA-BE67-6E0FBAA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6034-ECDD-4B7E-BDE9-E1FA961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F44-88BB-439B-9351-95105437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1BE4-B986-4427-9578-47EB565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C9A1-2BA9-4195-8672-35CF44C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8CEF-3BBD-4D4A-83CF-6D19443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6E9-5FC4-42CF-899D-0910B09D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16E8-854D-475C-BE39-A64A7F90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442B-C3AF-443C-9ED9-6DBD6474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EC8F-68E7-4903-9E57-61D3BA9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029-BB02-4E4D-AB1C-357C8DF0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397C-8536-4955-89AF-13A95E50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0A3-64C6-4D00-AC51-C2A2694C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C04-39CF-49A8-99D2-52244326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2B0-EEFC-41A2-8234-18F99CC6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0A6-0BE3-4408-8DB8-66348854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BC6-8855-4131-9F5B-DAC93D96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A36-878E-42E8-B1CF-AF42E2A9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27D-EE0F-4611-B88E-7687809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21F5-BE82-45C4-9DEF-FA0E1857F2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58EF-D424-4372-B90F-FA4A456FA3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audio" Target="../media/breeze.wav"/><Relationship Id="rId14" Type="http://schemas.openxmlformats.org/officeDocument/2006/relationships/audio" Target="../media/push.wav"/><Relationship Id="rId15" Type="http://schemas.openxmlformats.org/officeDocument/2006/relationships/audio" Target="../media/push.wav"/><Relationship Id="rId16" Type="http://schemas.openxmlformats.org/officeDocument/2006/relationships/audio" Target="../media/push.wav"/><Relationship Id="rId17" Type="http://schemas.openxmlformats.org/officeDocument/2006/relationships/audio" Target="../media/push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 rot="171000">
            <a:off x="1142640" y="457200"/>
            <a:ext cx="7010280" cy="29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tionaliz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2362320" y="3886200"/>
                <a:ext cx="95868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Group 9"/>
          <p:cNvGrpSpPr/>
          <p:nvPr/>
        </p:nvGrpSpPr>
        <p:grpSpPr>
          <a:xfrm>
            <a:off x="1294920" y="3657600"/>
            <a:ext cx="3048120" cy="2286000"/>
            <a:chOff x="1294920" y="3657600"/>
            <a:chExt cx="3048120" cy="2286000"/>
          </a:xfrm>
        </p:grpSpPr>
        <p:sp>
          <p:nvSpPr>
            <p:cNvPr id="161" name="Oval 4"/>
            <p:cNvSpPr/>
            <p:nvPr/>
          </p:nvSpPr>
          <p:spPr>
            <a:xfrm>
              <a:off x="1600200" y="3657600"/>
              <a:ext cx="2438280" cy="228600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 flipH="1">
              <a:off x="1294920" y="3657600"/>
              <a:ext cx="304812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5670720" y="3835440"/>
                <a:ext cx="95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4" name="Group 13"/>
          <p:cNvGrpSpPr/>
          <p:nvPr/>
        </p:nvGrpSpPr>
        <p:grpSpPr>
          <a:xfrm>
            <a:off x="4267080" y="4614840"/>
            <a:ext cx="838440" cy="304920"/>
            <a:chOff x="4267080" y="4614840"/>
            <a:chExt cx="838440" cy="304920"/>
          </a:xfrm>
        </p:grpSpPr>
        <p:sp>
          <p:nvSpPr>
            <p:cNvPr id="165" name="Rectangle 10"/>
            <p:cNvSpPr/>
            <p:nvPr/>
          </p:nvSpPr>
          <p:spPr>
            <a:xfrm>
              <a:off x="4267080" y="46148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Rectangle 12"/>
            <p:cNvSpPr/>
            <p:nvPr/>
          </p:nvSpPr>
          <p:spPr>
            <a:xfrm>
              <a:off x="4267080" y="4843440"/>
              <a:ext cx="838440" cy="76320"/>
            </a:xfrm>
            <a:prstGeom prst="rect">
              <a:avLst/>
            </a:prstGeom>
            <a:solidFill>
              <a:srgbClr val="00b2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2306520" y="419112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4038480" y="4165560"/>
                <a:ext cx="236232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6697800" y="419112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4" name="Group 8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15" name="Text Box 9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10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3060720" y="4352760"/>
                <a:ext cx="1492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4800600" y="4295880"/>
                <a:ext cx="92232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Text Box 6"/>
          <p:cNvSpPr/>
          <p:nvPr/>
        </p:nvSpPr>
        <p:spPr>
          <a:xfrm>
            <a:off x="0" y="7632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ecause we are changing        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0" y="2438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call this process           </a:t>
            </a:r>
            <a:r>
              <a:rPr b="1" lang="en-US" sz="5200" spc="-1" strike="noStrike">
                <a:solidFill>
                  <a:srgbClr val="000000"/>
                </a:solidFill>
                <a:latin typeface="Times New Roman"/>
              </a:rPr>
              <a:t>rationalizing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0" y="1676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191120" y="571500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58800" y="1455840"/>
                <a:ext cx="154620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394000" y="1379520"/>
                <a:ext cx="245088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Text Box 6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4998960" y="1379520"/>
                <a:ext cx="193536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7143840" y="1905120"/>
                <a:ext cx="13143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9" name="Line 11"/>
          <p:cNvSpPr/>
          <p:nvPr/>
        </p:nvSpPr>
        <p:spPr>
          <a:xfrm>
            <a:off x="5486400" y="251460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5029200" y="1523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3"/>
              <p:cNvSpPr txBox="1"/>
              <p:nvPr/>
            </p:nvSpPr>
            <p:spPr>
              <a:xfrm>
                <a:off x="4619520" y="1165320"/>
                <a:ext cx="4096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2874960" y="3809880"/>
                <a:ext cx="191772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457200" y="1371600"/>
                <a:ext cx="183024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2514600" y="1380960"/>
                <a:ext cx="30369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Text Box 4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ationalize the denominator: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5"/>
              <p:cNvSpPr txBox="1"/>
              <p:nvPr/>
            </p:nvSpPr>
            <p:spPr>
              <a:xfrm>
                <a:off x="5060880" y="3801960"/>
                <a:ext cx="95904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3255840" y="49528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874960" y="3962520"/>
            <a:ext cx="457200" cy="533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0"/>
              <p:cNvSpPr txBox="1"/>
              <p:nvPr/>
            </p:nvSpPr>
            <p:spPr>
              <a:xfrm>
                <a:off x="3941640" y="5334120"/>
                <a:ext cx="355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1"/>
              <p:cNvSpPr txBox="1"/>
              <p:nvPr/>
            </p:nvSpPr>
            <p:spPr>
              <a:xfrm>
                <a:off x="5715000" y="1379520"/>
                <a:ext cx="1900080" cy="17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Text Box 12"/>
          <p:cNvSpPr/>
          <p:nvPr/>
        </p:nvSpPr>
        <p:spPr>
          <a:xfrm rot="20435400">
            <a:off x="304920" y="190476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 rot="20435400">
            <a:off x="304920" y="39463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(Don’t forget to simplify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80880" y="22860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re is a binomial with a radical in the denominator of a fraction, you find the conjugate and multiply. This gives a rational denominator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304920" y="3657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914400" y="5410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410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2971800" y="6242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242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609480" y="457200"/>
            <a:ext cx="4426200" cy="1455840"/>
            <a:chOff x="609480" y="457200"/>
            <a:chExt cx="4426200" cy="1455840"/>
          </a:xfrm>
        </p:grpSpPr>
        <p:sp>
          <p:nvSpPr>
            <p:cNvPr id="251" name="Text Box 3"/>
            <p:cNvSpPr/>
            <p:nvPr/>
          </p:nvSpPr>
          <p:spPr>
            <a:xfrm>
              <a:off x="609480" y="68580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implify: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2" name="Object 4"/>
            <p:cNvGraphicFramePr/>
            <p:nvPr/>
          </p:nvGraphicFramePr>
          <p:xfrm>
            <a:off x="3352680" y="457200"/>
            <a:ext cx="1683000" cy="14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57200"/>
                      <a:ext cx="1683000" cy="14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4" name="Group 5"/>
          <p:cNvGrpSpPr/>
          <p:nvPr/>
        </p:nvGrpSpPr>
        <p:grpSpPr>
          <a:xfrm>
            <a:off x="763560" y="2362320"/>
            <a:ext cx="5481720" cy="1455480"/>
            <a:chOff x="763560" y="2362320"/>
            <a:chExt cx="5481720" cy="1455480"/>
          </a:xfrm>
        </p:grpSpPr>
        <p:graphicFrame>
          <p:nvGraphicFramePr>
            <p:cNvPr id="255" name="Object 6"/>
            <p:cNvGraphicFramePr/>
            <p:nvPr/>
          </p:nvGraphicFramePr>
          <p:xfrm>
            <a:off x="763560" y="2362320"/>
            <a:ext cx="2136960" cy="145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560" y="2362320"/>
                      <a:ext cx="213696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7"/>
            <p:cNvGraphicFramePr/>
            <p:nvPr/>
          </p:nvGraphicFramePr>
          <p:xfrm>
            <a:off x="2743200" y="2362320"/>
            <a:ext cx="3502080" cy="145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43200" y="2362320"/>
                      <a:ext cx="3502080" cy="145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9" name="Text Box 8"/>
          <p:cNvSpPr/>
          <p:nvPr/>
        </p:nvSpPr>
        <p:spPr>
          <a:xfrm>
            <a:off x="6629400" y="25146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ultiply by the conjug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0" name="Object 9"/>
          <p:cNvGraphicFramePr/>
          <p:nvPr/>
        </p:nvGraphicFramePr>
        <p:xfrm>
          <a:off x="914400" y="4114800"/>
          <a:ext cx="4648320" cy="14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114800"/>
                    <a:ext cx="464832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0"/>
          <p:cNvSpPr/>
          <p:nvPr/>
        </p:nvSpPr>
        <p:spPr>
          <a:xfrm>
            <a:off x="6172200" y="4495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943600" y="41911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IL numerator and denomin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886200" y="6278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y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200400" y="152280"/>
          <a:ext cx="152388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5238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Object 16"/>
          <p:cNvGraphicFramePr/>
          <p:nvPr/>
        </p:nvGraphicFramePr>
        <p:xfrm>
          <a:off x="457200" y="1917720"/>
          <a:ext cx="16002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17720"/>
                    <a:ext cx="16002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5"/>
          <p:cNvGraphicFramePr/>
          <p:nvPr/>
        </p:nvGraphicFramePr>
        <p:xfrm>
          <a:off x="2209680" y="1828800"/>
          <a:ext cx="15242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828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17"/>
          <p:cNvSpPr/>
          <p:nvPr/>
        </p:nvSpPr>
        <p:spPr>
          <a:xfrm>
            <a:off x="4349880" y="273960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Rectangle 18"/>
          <p:cNvSpPr/>
          <p:nvPr/>
        </p:nvSpPr>
        <p:spPr>
          <a:xfrm>
            <a:off x="1981080" y="251424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8" name="Object 19"/>
          <p:cNvGraphicFramePr/>
          <p:nvPr/>
        </p:nvGraphicFramePr>
        <p:xfrm>
          <a:off x="304920" y="3478320"/>
          <a:ext cx="2133360" cy="145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3478320"/>
                    <a:ext cx="2133360" cy="14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380880" y="5048280"/>
          <a:ext cx="1752840" cy="131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5048280"/>
                    <a:ext cx="17528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2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4" name="Object 23"/>
          <p:cNvGraphicFramePr/>
          <p:nvPr/>
        </p:nvGraphicFramePr>
        <p:xfrm>
          <a:off x="2743200" y="4991040"/>
          <a:ext cx="190512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4991040"/>
                    <a:ext cx="190512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Rectangle 25"/>
          <p:cNvSpPr/>
          <p:nvPr/>
        </p:nvSpPr>
        <p:spPr>
          <a:xfrm>
            <a:off x="2209680" y="55238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26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5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4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Object 2"/>
          <p:cNvGraphicFramePr/>
          <p:nvPr/>
        </p:nvGraphicFramePr>
        <p:xfrm>
          <a:off x="1143000" y="685800"/>
          <a:ext cx="274320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85800"/>
                    <a:ext cx="2743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3"/>
          <p:cNvSpPr/>
          <p:nvPr/>
        </p:nvSpPr>
        <p:spPr>
          <a:xfrm>
            <a:off x="5105520" y="1143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bine like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066680" y="3200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 on your ow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371600" y="4267080"/>
          <a:ext cx="19810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19810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4114800" y="4351320"/>
          <a:ext cx="5029200" cy="14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351320"/>
                    <a:ext cx="50292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re is an agreement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6"/>
          <p:cNvSpPr/>
          <p:nvPr/>
        </p:nvSpPr>
        <p:spPr>
          <a:xfrm>
            <a:off x="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mathematics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76320" y="185904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at we don’t leave a radical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76320" y="266688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n the denominator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76320" y="35053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of a fraction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5410080" y="2743200"/>
            <a:ext cx="3530880" cy="3048120"/>
          </a:xfrm>
          <a:custGeom>
            <a:avLst/>
            <a:gdLst/>
            <a:ahLst/>
            <a:rect l="l" t="t" r="r" b="b"/>
            <a:pathLst>
              <a:path w="2224" h="1920">
                <a:moveTo>
                  <a:pt x="1536" y="0"/>
                </a:moveTo>
                <a:cubicBezTo>
                  <a:pt x="1880" y="416"/>
                  <a:pt x="2224" y="832"/>
                  <a:pt x="1968" y="1152"/>
                </a:cubicBezTo>
                <a:cubicBezTo>
                  <a:pt x="1712" y="1472"/>
                  <a:pt x="856" y="1696"/>
                  <a:pt x="0" y="19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how do we change the denominator of a fraction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4208400" y="4572000"/>
                <a:ext cx="924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5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76320" y="3049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same way we change the denominator of any fraction!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905120"/>
            <a:ext cx="90676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(Without changing the value of the fraction, of course.)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320" y="304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 multiply the denominato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2895480" y="4186080"/>
                <a:ext cx="10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4"/>
          <p:cNvSpPr/>
          <p:nvPr/>
        </p:nvSpPr>
        <p:spPr>
          <a:xfrm>
            <a:off x="76320" y="19051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the same number.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052880" y="4176720"/>
                <a:ext cx="25765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Text Box 6"/>
          <p:cNvSpPr/>
          <p:nvPr/>
        </p:nvSpPr>
        <p:spPr>
          <a:xfrm>
            <a:off x="76320" y="1096920"/>
            <a:ext cx="906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and the numerator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By what number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32306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a rational number? </a:t>
            </a: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0" y="24685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change it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4114800" y="178452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Text Box 10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an we multiply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e answer is . . 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1371600" y="2354400"/>
                <a:ext cx="8888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5" name="Text Box 7"/>
          <p:cNvSpPr/>
          <p:nvPr/>
        </p:nvSpPr>
        <p:spPr>
          <a:xfrm>
            <a:off x="0" y="868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 . . by itself!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556000" y="2398680"/>
                <a:ext cx="193968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4660920" y="2100240"/>
                <a:ext cx="234936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0"/>
              <p:cNvSpPr txBox="1"/>
              <p:nvPr/>
            </p:nvSpPr>
            <p:spPr>
              <a:xfrm>
                <a:off x="7238880" y="2492280"/>
                <a:ext cx="3556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0" y="763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0" y="160020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is the number we square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4106880" y="990720"/>
                <a:ext cx="94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Text Box 10"/>
          <p:cNvSpPr/>
          <p:nvPr/>
        </p:nvSpPr>
        <p:spPr>
          <a:xfrm>
            <a:off x="0" y="24382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o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0" y="4114800"/>
            <a:ext cx="9144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we’d better get </a:t>
            </a:r>
            <a:r>
              <a:rPr b="0" i="1" lang="en-US" sz="5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0" y="327672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o when we square it, </a:t>
            </a:r>
            <a:endParaRPr b="0" lang="en-US" sz="5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3886200" y="685800"/>
                <a:ext cx="17575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4"/>
              <p:cNvSpPr txBox="1"/>
              <p:nvPr/>
            </p:nvSpPr>
            <p:spPr>
              <a:xfrm>
                <a:off x="5791320" y="1231920"/>
                <a:ext cx="9936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10"/>
          <p:cNvGrpSpPr/>
          <p:nvPr/>
        </p:nvGrpSpPr>
        <p:grpSpPr>
          <a:xfrm>
            <a:off x="0" y="76320"/>
            <a:ext cx="9144000" cy="4053960"/>
            <a:chOff x="0" y="76320"/>
            <a:chExt cx="9144000" cy="4053960"/>
          </a:xfrm>
        </p:grpSpPr>
        <p:sp>
          <p:nvSpPr>
            <p:cNvPr id="208" name="Text Box 2"/>
            <p:cNvSpPr/>
            <p:nvPr/>
          </p:nvSpPr>
          <p:spPr>
            <a:xfrm>
              <a:off x="0" y="76320"/>
              <a:ext cx="9144000" cy="40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In our fraction, to get the radical out of the  denominator,                              we can multiply numerator and   denominator by      .</a:t>
              </a:r>
              <a:endParaRPr b="0" lang="en-US" sz="5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6172200" y="2514600"/>
                  <a:ext cx="8888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114800" y="4191120"/>
                <a:ext cx="92376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3:45:22Z</dcterms:created>
  <dc:creator>Bob Greer</dc:creator>
  <dc:description/>
  <dc:language>en-US</dc:language>
  <cp:lastModifiedBy>RomaK</cp:lastModifiedBy>
  <dcterms:modified xsi:type="dcterms:W3CDTF">2015-09-04T09:19:52Z</dcterms:modified>
  <cp:revision>8</cp:revision>
  <dc:subject/>
  <dc:title>PowerPoint Presentation</dc:title>
</cp:coreProperties>
</file>